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B72C-0391-4CBF-AFEF-BAC3DEFC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8AF0-21A4-407B-9F52-C074D262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D3AD91-C191-4343-85A3-EFC92C8A95E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C02D6E-966B-4314-8937-1A0F2A09860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FAEFD8-4738-4BD2-9EBB-9F6EBC63DC9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6B8E4F-E859-452E-AD4B-283A07871D8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9B5424-4922-4FEF-95FC-E80102C0401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B151F2-BB20-4B75-821A-80A3D0CA8E7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0F4CF6-82AC-42A7-93D0-091202D56E2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2109B9-A3F2-464E-9761-AF4905D75BA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A5C5A5-C070-49B7-933B-05A6707984F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4EAA-804E-4522-8C45-050BCA288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34B3-80B2-4C28-A47E-5D2C5883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635A-102B-4F4C-8C48-3C3D7E69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343F6-46C7-412E-82D1-56D8A953A6F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704D3-727F-448D-95C8-6487D394DA3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4CF0D-1096-4915-85D6-BD491763B4B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B1191-6BBF-4BA6-B9C5-8483EC8C900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42845-C17F-4A5E-A8CA-5885AAD0B9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42BF-B6E5-4A90-8CA0-33F18B65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36281-42AB-4102-A15B-8C9394DE629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FC6E3-A1AC-4D07-A19F-A703A3D8258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45F7F-38B9-44B4-A08A-8576ED437CA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88502-08A7-4A28-A08A-8BCE0DC851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09B85-69B9-4C2D-9C2E-2012EEB4A1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0CEDA-F493-4D34-A99B-CEDB61A58B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98247-8BF7-480F-B69C-1A82F16A885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07289-2DA6-493D-8562-9902EB2B93F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2FB01-615D-4E82-8E5C-387D6D62C55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127E5-EFEC-4B69-8B54-DCF881E3EB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C9E1-ACFD-4CC6-88C3-3E253B35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7CE01-5F71-442F-AEAE-71E9A26DB2A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24A22-8E4B-4DB5-A5DC-1A715984F28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A7B75-BBAB-44C1-87FC-51C6C45FF1E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5BC63-77A9-4110-95FA-8505DEB2FF3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C68FD-4215-4F42-B496-87F2D04F7C7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D6A50-6660-44B1-8746-7E3549592D1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45F95-E63E-4FBC-836E-A789E19C899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130C5-D0EF-4D3F-A3C7-BF2F60EDB8B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BE92B-DBAD-45BC-8352-2D75FD58ED1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9FC0-8069-4922-A312-09AC13BE6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2E20-8EF4-4B33-99EE-B1111762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C682-EA21-47B6-8095-F49401418D0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9E4E-7180-49D8-B6CC-7E9BFE87DD6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0C26-F0AA-4009-8E57-9C14510D72D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E4F6-45C0-4721-A7D7-B20E7513FC1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E085-8809-492D-B21A-8081CD33CB9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49C4-01DF-4901-B1D4-43EF0BDAD89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C075-F47D-4A44-B49E-85A8C64742E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B23A-78C2-46BA-8087-B3BDC18F4FA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74FE-5B5D-4457-9E2B-74D3B382792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0EE6-02A9-44B7-9026-8AF355AC38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FA3A-3E9D-4852-BE46-C831D0BC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7783-3AA3-4F20-AFAB-B61106D4DE6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A98A18-F4C9-4B87-A09D-562F929E261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6C349E-045F-40CC-ABD7-92C51B83E88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E65D4A-AEBE-40B6-840B-DF79A4B8939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CB1171-60AD-4EBA-A1FF-6CECA3FCD9D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40EC6A-8744-4B37-8753-D1DFDA12630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1C32FD-1E9F-4BCF-B2C6-A5705147AC1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350C50-FF57-4143-B4A4-1B143FC02A9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B480ED-F07B-46F2-8588-F2A66AB874D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CF9DD8-9D5E-43C0-B41C-C6C1608352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3C4D-B522-4409-A01A-27E5B430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E5BDA3-26D3-49E9-898E-655FF0B5D92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A882C8-68AF-49BF-9139-BF5A0D900F9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09B708-75D9-4D80-852D-02BA4B041E4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042E10-9EC0-4E97-8D85-3824AC313B7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C5F33F-DCF5-4FD7-995B-A2A78A8F1C0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B4C23E-6415-42AA-8FD1-73430068D55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9F0C14-E747-4816-A4A3-F58D8A4604F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98DD23-6FBA-48E9-8CAE-E317AD43B6E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0A8176-A625-43BA-89A6-A1227709AB1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A6B264-2EC8-49AD-80F6-F054035B4B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C6B5-12AC-44ED-8399-BFEB6167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5DE8D7-07FD-4B55-9165-0B22D2EA1D8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AE1202-02DF-4AFE-A86F-893D151BBF0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572C14-B4CE-418E-9F87-124FCCF49CB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5AC950-6FA9-4D76-AA7D-29F450105BE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EF04C5-5EE6-432C-B806-D56E8A4D394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AEB3B-1372-4ED6-A749-133889EE2D4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795F4-463F-4044-994C-34D7156E484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537D6-48E3-43FC-BC58-56B03197D9C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FDEB0-81F0-4277-A7D1-B05E9A68CA0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AB0DA-1BE7-408B-9545-CE5D819D9E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57A2-FBA4-48F1-A869-F601684E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8B472-4409-42BD-8D18-CD87892819A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E8DD1-65F8-406A-8AA0-CC2269C5B98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04EAC-72BB-4508-8FB8-59CC29D2692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219B4-DD7F-4593-B0C3-42EF99662A7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EC864-C06B-4D25-8D40-71A4CE8F328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07836-6355-4E35-8EE2-C8C7193F918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D226B-4999-4E65-B01F-8321FF4C214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4685FB-FC69-475B-A341-812F9390A81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17759A-32ED-465D-961D-9355C870777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508478-4446-458A-944D-A5D66389DC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F4707EA-EB68-4868-B3AA-1459D6EAEE2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B0E61DD-F82F-453D-B666-3BF09FCA14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1B0EC52-B31D-4ACE-A34A-D88607A4562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614047C-26EA-407D-9F92-E36A3F5A011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CB36870-A64A-477A-9E84-5E748B5ADA6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E012051-43DB-41B9-A8B2-376A474EBB9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CAA2B39-EF77-43C6-835B-046FBAD8022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7D9345F-B23D-4AFD-81C4-C2A85A9F0A8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AC28829-4055-4E82-AC1D-D2862F9D4CF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Maija.Bundule@lza.l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-era.net/joint-call-2016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900" spc="-1" strike="noStrike">
                <a:solidFill>
                  <a:srgbClr val="000000"/>
                </a:solidFill>
                <a:latin typeface="Verdana"/>
                <a:ea typeface="Verdana"/>
              </a:rPr>
              <a:t>M-era.Net 2 –                       2016.gada projektu konkurs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2 projek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733040" y="1752120"/>
            <a:ext cx="695340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rojekta mērķis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– koordinēt “M.ERA-Net” projekta konsorcija dalībnieku sadarbību materiālzinātņu un inženierzinātņu jomā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rojekta uzdevums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– kopīgu projektu konkursu organizēšan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darbības laiks: 1.03.2016.-28.02.202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koordinators – Austrijas Zinātnes fonds (Austrij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Latviju pārstāv Valsts izglītības attīstības aģentūra, kontaktpersonas:  Dr. Maija Bundule, tel. 67785423, e-pasts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Maija.Bundule@viaa.gov.lv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B493891-252B-4858-8D56-3337E3F9709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Bild 1" descr=""/>
          <p:cNvPicPr/>
          <p:nvPr/>
        </p:nvPicPr>
        <p:blipFill>
          <a:blip r:embed="rId2"/>
          <a:stretch/>
        </p:blipFill>
        <p:spPr>
          <a:xfrm>
            <a:off x="7308720" y="2872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46400" y="380880"/>
            <a:ext cx="64404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projekta dalībnie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314000" y="1752120"/>
            <a:ext cx="73724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onkursā piedalās Eiropas 41 zinātni finansējoša organizācija pārstāvot 23 Eiropas valsti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onkursā piedalā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aivānas Zinātnes un tehnoloģijas ministrij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ievijas inovācijas atbalsta fond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ienvidkorejas pētniecības atbalsta fond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razīlijas Izglītības un zinātnes ministrij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5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736EFE1-46D6-4A8F-ABEB-1F8BC3E6C79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Bild 1" descr=""/>
          <p:cNvPicPr/>
          <p:nvPr/>
        </p:nvPicPr>
        <p:blipFill>
          <a:blip r:embed="rId1"/>
          <a:stretch/>
        </p:blipFill>
        <p:spPr>
          <a:xfrm>
            <a:off x="7454880" y="2872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2 konku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776240" y="1752120"/>
            <a:ext cx="6910560" cy="3899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konkursa tematik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grated computational materials engineering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novative surfaces, coatings and interface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High performance synthetic and bio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ased composite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Functional material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rfaces between materials and biological hosts for health application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ials for additive manufactu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AEC557A-EB01-47CF-A467-C90BF386290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Bild 1" descr=""/>
          <p:cNvPicPr/>
          <p:nvPr/>
        </p:nvPicPr>
        <p:blipFill>
          <a:blip r:embed="rId1"/>
          <a:stretch/>
        </p:blipFill>
        <p:spPr>
          <a:xfrm>
            <a:off x="7607160" y="33480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395440" y="380880"/>
            <a:ext cx="62913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konku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34680" y="1684080"/>
            <a:ext cx="827388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Konkursam var iesniegt projektus ar īstenošanas ilgumu līdz trīs gadie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Projekta konsorcija minimālais sastāvs: trīs dalībnieki no vismaz divām valstī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Informācija par konkursu atrodama projekta mājas lapā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www.m-era.net/joint-call-2016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Latvijas dalībnieki var plānot projekta izdevumus līdz 70 000 EUR/gadā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Verdana"/>
              </a:rPr>
              <a:t>Partner</a:t>
            </a:r>
            <a:r>
              <a:rPr b="1" lang="lv-LV" sz="1900" spc="-1" strike="noStrike">
                <a:solidFill>
                  <a:srgbClr val="000000"/>
                </a:solidFill>
                <a:latin typeface="Verdana"/>
                <a:ea typeface="Verdana"/>
              </a:rPr>
              <a:t>u meklēšanas instrumenti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MPTeAm3 piedāvā partneru meklēšanas instrumentu interneta vietnē  https://www.nmp-partnersearch.eu/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opas Uzņēmumu tīkla (EEN, </a:t>
            </a:r>
            <a:r>
              <a:rPr b="0" i="1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erprise Europe Networ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nerības vietne internetā http://een.ec.europa.eu/tools/services/SearchCenter/Search/ProfileSimpleSearch?shid=32db25cb-726f-43b0-8b5f-7742d0935799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5E5EC94-E0E8-47E7-A67D-0BC2D85C5A7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Bild 1" descr=""/>
          <p:cNvPicPr/>
          <p:nvPr/>
        </p:nvPicPr>
        <p:blipFill>
          <a:blip r:embed="rId2"/>
          <a:stretch/>
        </p:blipFill>
        <p:spPr>
          <a:xfrm>
            <a:off x="7607160" y="33660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konku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193760" y="1752120"/>
            <a:ext cx="74930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konkurss notiks divās kārtā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mājas lapa www.m-era.net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konkurss atvērts 2016.gada 15.mar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ideju iesniegšanas termiņš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2016.gada 14.jūnij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lno projektu iesniegšanas termiņš – 2016.gada 10.novembri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Lēmums par atbalstāmajiem projektiem  2017.gada 24.janvār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26A5943-6C46-4B00-B177-EE2F319FCDA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Bild 1" descr=""/>
          <p:cNvPicPr/>
          <p:nvPr/>
        </p:nvPicPr>
        <p:blipFill>
          <a:blip r:embed="rId1"/>
          <a:stretch/>
        </p:blipFill>
        <p:spPr>
          <a:xfrm>
            <a:off x="7607160" y="33660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Maija Bundule</cp:lastModifiedBy>
  <dcterms:modified xsi:type="dcterms:W3CDTF">2016-05-12T14:30:05Z</dcterms:modified>
  <cp:revision>17</cp:revision>
  <dc:subject/>
  <dc:title>PowerPoint Presentation</dc:title>
</cp:coreProperties>
</file>